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19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22.jpeg" ContentType="image/jpeg"/>
  <Override PartName="/ppt/media/image32.png" ContentType="image/png"/>
  <Override PartName="/ppt/media/image7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9.jpeg" ContentType="image/jpe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.wmf" ContentType="image/x-wmf"/>
  <Override PartName="/ppt/media/image10.jpeg" ContentType="image/jpeg"/>
  <Override PartName="/ppt/media/image14.png" ContentType="image/png"/>
  <Override PartName="/ppt/media/image15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A964-EBBB-4448-8EAF-45F13E67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3D2A-892F-4572-9FD8-A4D3579A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71C-332E-4838-969F-DD29BC9D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5A0-299D-4921-ABAA-C22F1ECC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DFF-223F-4F04-A249-F492588C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D264-1117-4875-9C00-05A931B6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C7D8-7508-4A77-988F-006130E1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CF0-F696-4683-A3B2-93FA0280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F1B-4DCB-45A6-94E1-13097BC2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A68-DD6E-4D7A-858D-8016D4D2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C7C-A1D6-46A2-B21C-A5BFDB09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D94-D086-40C9-AFDF-9713CB28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F66C-2D45-4A2F-B360-1B5AD4BBD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DD00472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5335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Native 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ve Americans were the people who lived in America before people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ountries came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8" descr="family"/>
          <p:cNvPicPr/>
          <p:nvPr/>
        </p:nvPicPr>
        <p:blipFill>
          <a:blip r:embed="rId1"/>
          <a:stretch/>
        </p:blipFill>
        <p:spPr>
          <a:xfrm>
            <a:off x="3352680" y="3048120"/>
            <a:ext cx="2614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90720" y="914400"/>
            <a:ext cx="693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762120" y="60948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ny Native American culture groups built their homes in villages or citi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914400" y="51814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se are the remains of an anc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asazi cliff vill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0" descr="page10"/>
          <p:cNvPicPr/>
          <p:nvPr/>
        </p:nvPicPr>
        <p:blipFill>
          <a:blip r:embed="rId1"/>
          <a:stretch/>
        </p:blipFill>
        <p:spPr>
          <a:xfrm>
            <a:off x="1828800" y="1523880"/>
            <a:ext cx="552456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914400" y="9144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ther culture groups, like the Plains Indians, were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nomadic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143000" y="502920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y could not live in one place.  They had to move around to follow the buffa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page11"/>
          <p:cNvPicPr/>
          <p:nvPr/>
        </p:nvPicPr>
        <p:blipFill>
          <a:blip r:embed="rId1"/>
          <a:stretch/>
        </p:blipFill>
        <p:spPr>
          <a:xfrm>
            <a:off x="2133720" y="1828800"/>
            <a:ext cx="48006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990720" y="685800"/>
            <a:ext cx="716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physical surrounding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of each region also affected how each cult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roup got its f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90720" y="4038480"/>
            <a:ext cx="7162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in the Eastern Woodlands were very lucky.  That region had forests, lakes and rivers, a nearby ocean, and good climate.  These Native Americans could farm, hunt, and fish for f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8" descr="page12"/>
          <p:cNvPicPr/>
          <p:nvPr/>
        </p:nvPicPr>
        <p:blipFill>
          <a:blip r:embed="rId1"/>
          <a:stretch/>
        </p:blipFill>
        <p:spPr>
          <a:xfrm>
            <a:off x="1143000" y="1981080"/>
            <a:ext cx="2046240" cy="1874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page13"/>
          <p:cNvPicPr/>
          <p:nvPr/>
        </p:nvPicPr>
        <p:blipFill>
          <a:blip r:embed="rId2"/>
          <a:stretch/>
        </p:blipFill>
        <p:spPr>
          <a:xfrm>
            <a:off x="3824280" y="2133720"/>
            <a:ext cx="1863720" cy="169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page12c"/>
          <p:cNvPicPr/>
          <p:nvPr/>
        </p:nvPicPr>
        <p:blipFill>
          <a:blip r:embed="rId3"/>
          <a:stretch/>
        </p:blipFill>
        <p:spPr>
          <a:xfrm>
            <a:off x="6324480" y="2286000"/>
            <a:ext cx="16923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143000" y="685800"/>
            <a:ext cx="672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ere no forests in the Southwest region.  The land was rocky and uneve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219320" y="4419720"/>
            <a:ext cx="6705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ere many mesas, or large rocks with flat tops.  The Indians who lived in this region were farmers.  They planted their crops on the tops of m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page13"/>
          <p:cNvPicPr/>
          <p:nvPr/>
        </p:nvPicPr>
        <p:blipFill>
          <a:blip r:embed="rId1"/>
          <a:stretch/>
        </p:blipFill>
        <p:spPr>
          <a:xfrm>
            <a:off x="1981080" y="1676520"/>
            <a:ext cx="52466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762120" y="510552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in the California Inter-mountain region were known as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gatherer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page14"/>
          <p:cNvPicPr/>
          <p:nvPr/>
        </p:nvPicPr>
        <p:blipFill>
          <a:blip r:embed="rId1"/>
          <a:stretch/>
        </p:blipFill>
        <p:spPr>
          <a:xfrm>
            <a:off x="2895480" y="762120"/>
            <a:ext cx="3276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143000" y="2514600"/>
            <a:ext cx="6705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ere few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natural resourc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in this region.  These Native Americans gathered acorns, seeds, and fruits.  They also dug up plant roots to eat for f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page15a"/>
          <p:cNvPicPr/>
          <p:nvPr/>
        </p:nvPicPr>
        <p:blipFill>
          <a:blip r:embed="rId1"/>
          <a:stretch/>
        </p:blipFill>
        <p:spPr>
          <a:xfrm>
            <a:off x="1066680" y="838080"/>
            <a:ext cx="1179720" cy="1447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page15b"/>
          <p:cNvPicPr/>
          <p:nvPr/>
        </p:nvPicPr>
        <p:blipFill>
          <a:blip r:embed="rId2"/>
          <a:stretch/>
        </p:blipFill>
        <p:spPr>
          <a:xfrm>
            <a:off x="6553080" y="838080"/>
            <a:ext cx="1443240" cy="1463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page15c"/>
          <p:cNvPicPr/>
          <p:nvPr/>
        </p:nvPicPr>
        <p:blipFill>
          <a:blip r:embed="rId3"/>
          <a:stretch/>
        </p:blipFill>
        <p:spPr>
          <a:xfrm>
            <a:off x="990720" y="4343400"/>
            <a:ext cx="1749240" cy="1725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page15d"/>
          <p:cNvPicPr/>
          <p:nvPr/>
        </p:nvPicPr>
        <p:blipFill>
          <a:blip r:embed="rId4"/>
          <a:stretch/>
        </p:blipFill>
        <p:spPr>
          <a:xfrm>
            <a:off x="6477120" y="4267080"/>
            <a:ext cx="1511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066680" y="83808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dians from the Northwest Coast hunted sea animals in the Pacific Ocea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990720" y="472428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ere many salmon in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ivers for them to ea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y also hunted animals in nearby for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page16"/>
          <p:cNvPicPr/>
          <p:nvPr/>
        </p:nvPicPr>
        <p:blipFill>
          <a:blip r:embed="rId1"/>
          <a:stretch/>
        </p:blipFill>
        <p:spPr>
          <a:xfrm>
            <a:off x="1523880" y="1828800"/>
            <a:ext cx="600084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685800" y="4191120"/>
            <a:ext cx="754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uffalo were a natural resource in the Plains region.  The meat was used for food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skins were used for shelters and clothing.  The bones were used for to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page17"/>
          <p:cNvPicPr/>
          <p:nvPr/>
        </p:nvPicPr>
        <p:blipFill>
          <a:blip r:embed="rId1"/>
          <a:stretch/>
        </p:blipFill>
        <p:spPr>
          <a:xfrm>
            <a:off x="1946160" y="660240"/>
            <a:ext cx="521676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066680" y="838080"/>
            <a:ext cx="701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physical surroundings of the regions affected each culture group’s way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ife in other ways,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990720" y="48006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as much clay in the Southwes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that lived in this region used the clay to make beautiful pott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page18"/>
          <p:cNvPicPr/>
          <p:nvPr/>
        </p:nvPicPr>
        <p:blipFill>
          <a:blip r:embed="rId1"/>
          <a:stretch/>
        </p:blipFill>
        <p:spPr>
          <a:xfrm>
            <a:off x="2886120" y="2079720"/>
            <a:ext cx="337176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62120" y="7621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Northwest Coast region had many forests.  The Native Americans in th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egion used wood from the fores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o carve tall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totem pol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219320" y="5029200"/>
            <a:ext cx="6629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carvings on each totem pole told about a family’s hi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" descr="page19"/>
          <p:cNvPicPr/>
          <p:nvPr/>
        </p:nvPicPr>
        <p:blipFill>
          <a:blip r:embed="rId1"/>
          <a:stretch/>
        </p:blipFill>
        <p:spPr>
          <a:xfrm>
            <a:off x="3352680" y="2514600"/>
            <a:ext cx="24004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066680" y="9144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respected natu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0720" y="50292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y took care of the earth and on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used what they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5"/>
          <p:cNvGraphicFramePr/>
          <p:nvPr/>
        </p:nvGraphicFramePr>
        <p:xfrm>
          <a:off x="2666880" y="1600200"/>
          <a:ext cx="378324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00200"/>
                    <a:ext cx="378324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990720" y="6858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ere many buffalo in the Plains region.  Native Americans who liv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this region were hunte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66680" y="4191120"/>
            <a:ext cx="7010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Plains Indians had special ceremonies before big hunts.  They danced to the music of drums.  They thought this would bring them good luck on the h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7" descr="page20"/>
          <p:cNvPicPr/>
          <p:nvPr/>
        </p:nvPicPr>
        <p:blipFill>
          <a:blip r:embed="rId1"/>
          <a:stretch/>
        </p:blipFill>
        <p:spPr>
          <a:xfrm>
            <a:off x="1752480" y="1981080"/>
            <a:ext cx="2068560" cy="2297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page20b"/>
          <p:cNvPicPr/>
          <p:nvPr/>
        </p:nvPicPr>
        <p:blipFill>
          <a:blip r:embed="rId2"/>
          <a:stretch/>
        </p:blipFill>
        <p:spPr>
          <a:xfrm>
            <a:off x="5638680" y="1981080"/>
            <a:ext cx="19670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066680" y="990720"/>
            <a:ext cx="716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43000" y="4724280"/>
            <a:ext cx="685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80880" y="6858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in the California Inter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ountain region were expert basket weave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14400" y="5257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y made beautiful baske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ut of grasses and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page21"/>
          <p:cNvPicPr/>
          <p:nvPr/>
        </p:nvPicPr>
        <p:blipFill>
          <a:blip r:embed="rId1"/>
          <a:stretch/>
        </p:blipFill>
        <p:spPr>
          <a:xfrm>
            <a:off x="2362320" y="1662120"/>
            <a:ext cx="4724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990720" y="685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hysical surroundings affected how the Indians traveled, too.  All Indians walk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819520" y="236232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lains and Southwest Indians got horses from Spanish explor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33520" y="4114800"/>
            <a:ext cx="586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dians in the Eastern Woodlands, Northwest Coast, and California Intermountain regions used cano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5" descr="page22"/>
          <p:cNvPicPr/>
          <p:nvPr/>
        </p:nvPicPr>
        <p:blipFill>
          <a:blip r:embed="rId1"/>
          <a:stretch/>
        </p:blipFill>
        <p:spPr>
          <a:xfrm>
            <a:off x="762120" y="1676520"/>
            <a:ext cx="2217600" cy="1989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page23"/>
          <p:cNvPicPr/>
          <p:nvPr/>
        </p:nvPicPr>
        <p:blipFill>
          <a:blip r:embed="rId2"/>
          <a:stretch/>
        </p:blipFill>
        <p:spPr>
          <a:xfrm>
            <a:off x="6095880" y="3809880"/>
            <a:ext cx="23320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8"/>
          <p:cNvSpPr/>
          <p:nvPr/>
        </p:nvSpPr>
        <p:spPr>
          <a:xfrm>
            <a:off x="762120" y="4724280"/>
            <a:ext cx="761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 culture groups had different ways of life due to their different physical surroundings and natural re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1752480" y="685800"/>
            <a:ext cx="5334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et’s review.  We kn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762120" y="15238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were the first Americ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762120" y="20574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respected 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762120" y="259092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used natural re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762120" y="3124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lived in different reg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762120" y="3657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had different h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762120" y="41911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got food in different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2" descr="page23a"/>
          <p:cNvPicPr/>
          <p:nvPr/>
        </p:nvPicPr>
        <p:blipFill>
          <a:blip r:embed="rId1"/>
          <a:stretch/>
        </p:blipFill>
        <p:spPr>
          <a:xfrm>
            <a:off x="1676520" y="533520"/>
            <a:ext cx="9936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066680" y="99072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hoto 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990720" y="1905120"/>
            <a:ext cx="7162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age 1 - Spotted Tail’s fami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estern History/Genealogy Department, Denver Public Libr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066680" y="2971800"/>
            <a:ext cx="65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age 14 – Fruit gather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rthwestern University Library,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dward S. Curtis's 'The North American Indian': the Photographic Imag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2001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ttp://memory.loc.gov/ammem/award98/ienhtml/curthome.ht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990720" y="91440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used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natural resourc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o meet their need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90720" y="48769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990720" y="4495680"/>
            <a:ext cx="7086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Natural resourc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are things in nature that people can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523880" y="3733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3200400" y="3733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4952880" y="3733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t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6781680" y="3733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buffa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3" descr="page3a"/>
          <p:cNvPicPr/>
          <p:nvPr/>
        </p:nvPicPr>
        <p:blipFill>
          <a:blip r:embed="rId1"/>
          <a:stretch/>
        </p:blipFill>
        <p:spPr>
          <a:xfrm>
            <a:off x="1143000" y="2503440"/>
            <a:ext cx="1447920" cy="84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page3b"/>
          <p:cNvPicPr/>
          <p:nvPr/>
        </p:nvPicPr>
        <p:blipFill>
          <a:blip r:embed="rId2"/>
          <a:stretch/>
        </p:blipFill>
        <p:spPr>
          <a:xfrm>
            <a:off x="3052800" y="2503440"/>
            <a:ext cx="1246320" cy="94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page3c"/>
          <p:cNvPicPr/>
          <p:nvPr/>
        </p:nvPicPr>
        <p:blipFill>
          <a:blip r:embed="rId3"/>
          <a:stretch/>
        </p:blipFill>
        <p:spPr>
          <a:xfrm>
            <a:off x="4761000" y="2503440"/>
            <a:ext cx="1520640" cy="1006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page3d"/>
          <p:cNvPicPr/>
          <p:nvPr/>
        </p:nvPicPr>
        <p:blipFill>
          <a:blip r:embed="rId4"/>
          <a:stretch/>
        </p:blipFill>
        <p:spPr>
          <a:xfrm>
            <a:off x="6743880" y="2503440"/>
            <a:ext cx="125712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D00472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990720" y="10666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Native Americans lived in </a:t>
            </a:r>
            <a:br>
              <a:rPr sz="3200"/>
            </a:br>
            <a:r>
              <a:rPr b="0" lang="en-US" sz="3200" spc="-1" strike="noStrike">
                <a:solidFill>
                  <a:srgbClr val="339966"/>
                </a:solidFill>
                <a:latin typeface="Arial Unicode MS"/>
              </a:rPr>
              <a:t>culture group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14400" y="2438280"/>
            <a:ext cx="7391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people in a </a:t>
            </a:r>
            <a:r>
              <a:rPr b="0" lang="en-US" sz="3200" spc="-1" strike="noStrike">
                <a:solidFill>
                  <a:srgbClr val="339966"/>
                </a:solidFill>
                <a:latin typeface="Arial Unicode MS"/>
              </a:rPr>
              <a:t>culture group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have the same way of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838080" y="4114800"/>
            <a:ext cx="7543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 </a:t>
            </a:r>
            <a:r>
              <a:rPr b="0" lang="en-US" sz="3200" spc="-1" strike="noStrike">
                <a:solidFill>
                  <a:srgbClr val="339966"/>
                </a:solidFill>
                <a:latin typeface="Arial Unicode MS"/>
              </a:rPr>
              <a:t>culture group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is a group of people who live in the same </a:t>
            </a:r>
            <a:r>
              <a:rPr b="0" lang="en-US" sz="3200" spc="-1" strike="noStrike">
                <a:solidFill>
                  <a:srgbClr val="339966"/>
                </a:solidFill>
                <a:latin typeface="Arial Unicode MS"/>
              </a:rPr>
              <a:t>reg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143000" y="5105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Native Americans lived in six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ifferent reg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page5"/>
          <p:cNvPicPr/>
          <p:nvPr/>
        </p:nvPicPr>
        <p:blipFill>
          <a:blip r:embed="rId1"/>
          <a:stretch/>
        </p:blipFill>
        <p:spPr>
          <a:xfrm>
            <a:off x="1143000" y="609480"/>
            <a:ext cx="68580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5"/>
          <p:cNvSpPr/>
          <p:nvPr/>
        </p:nvSpPr>
        <p:spPr>
          <a:xfrm>
            <a:off x="685800" y="5335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ach region had different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physical surrounding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914400" y="434340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thers were mostly des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4495680" y="16002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ome regions had for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8" descr="page6a"/>
          <p:cNvPicPr/>
          <p:nvPr/>
        </p:nvPicPr>
        <p:blipFill>
          <a:blip r:embed="rId1"/>
          <a:stretch/>
        </p:blipFill>
        <p:spPr>
          <a:xfrm>
            <a:off x="914400" y="1066680"/>
            <a:ext cx="3657600" cy="249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page6b"/>
          <p:cNvPicPr/>
          <p:nvPr/>
        </p:nvPicPr>
        <p:blipFill>
          <a:blip r:embed="rId2"/>
          <a:stretch/>
        </p:blipFill>
        <p:spPr>
          <a:xfrm>
            <a:off x="4419720" y="3657600"/>
            <a:ext cx="38480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219320" y="5257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ill others had oceans nearby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page7"/>
          <p:cNvPicPr/>
          <p:nvPr/>
        </p:nvPicPr>
        <p:blipFill>
          <a:blip r:embed="rId1"/>
          <a:stretch/>
        </p:blipFill>
        <p:spPr>
          <a:xfrm>
            <a:off x="1295280" y="990720"/>
            <a:ext cx="655344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"/>
          <p:cNvSpPr/>
          <p:nvPr/>
        </p:nvSpPr>
        <p:spPr>
          <a:xfrm>
            <a:off x="457200" y="9907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ach region had different </a:t>
            </a:r>
            <a:r>
              <a:rPr b="0" lang="en-US" sz="3200" spc="-1" strike="noStrike">
                <a:solidFill>
                  <a:srgbClr val="339966"/>
                </a:solidFill>
                <a:latin typeface="Arial Unicode MS"/>
              </a:rPr>
              <a:t>natural resourc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838080" y="4724280"/>
            <a:ext cx="7620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ach culture group used the natural resources in its region to meet its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6" descr="page8"/>
          <p:cNvPicPr/>
          <p:nvPr/>
        </p:nvPicPr>
        <p:blipFill>
          <a:blip r:embed="rId1"/>
          <a:stretch/>
        </p:blipFill>
        <p:spPr>
          <a:xfrm>
            <a:off x="1905120" y="1523880"/>
            <a:ext cx="5086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914400" y="327672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ose who lived near deserts used clay or stones to build their homes.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1219320" y="609480"/>
            <a:ext cx="663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r this reason, Native American cult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roups had different homes.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838080" y="419112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ose who lived on the Plains used buffalo skins to make their hom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85800" y="5105520"/>
            <a:ext cx="78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ill others lived near forests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y built their homes of w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9" descr="page9a"/>
          <p:cNvPicPr/>
          <p:nvPr/>
        </p:nvPicPr>
        <p:blipFill>
          <a:blip r:embed="rId1"/>
          <a:stretch/>
        </p:blipFill>
        <p:spPr>
          <a:xfrm>
            <a:off x="1066680" y="1523880"/>
            <a:ext cx="2514600" cy="1717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page9b"/>
          <p:cNvPicPr/>
          <p:nvPr/>
        </p:nvPicPr>
        <p:blipFill>
          <a:blip r:embed="rId2"/>
          <a:stretch/>
        </p:blipFill>
        <p:spPr>
          <a:xfrm>
            <a:off x="3886200" y="1676520"/>
            <a:ext cx="1362240" cy="1447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page9c"/>
          <p:cNvPicPr/>
          <p:nvPr/>
        </p:nvPicPr>
        <p:blipFill>
          <a:blip r:embed="rId3"/>
          <a:stretch/>
        </p:blipFill>
        <p:spPr>
          <a:xfrm>
            <a:off x="5410080" y="2057400"/>
            <a:ext cx="2895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14:54:58Z</dcterms:created>
  <dc:creator>LAyers</dc:creator>
  <dc:description/>
  <dc:language>en-US</dc:language>
  <cp:lastModifiedBy>CCS</cp:lastModifiedBy>
  <dcterms:modified xsi:type="dcterms:W3CDTF">2012-08-25T15:56:06Z</dcterms:modified>
  <cp:revision>115</cp:revision>
  <dc:subject/>
  <dc:title>Native Americans</dc:title>
</cp:coreProperties>
</file>